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57A9-729A-45D9-9235-95B5A2CB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4877-C436-4D6B-9008-70BB6E4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D969-E404-41C4-8151-34451DF8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920E-0D66-40FF-A907-7084E56D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ED34-1CDD-4BAB-A970-6A0C520F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FA71-21CF-4A64-A8C0-169C07A2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29EC-32E9-4D27-ACF8-D0C145F4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A158-D05D-40F2-9A42-896AC6A5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9A88-D4C5-4083-8D2D-A97C8401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91AC-CE25-498A-8BDE-5AEA19D3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938A-0293-4DDE-8BBE-3A66D512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951F-266F-46FC-B9F4-A996E42A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F1D5-5EB6-4A49-9D00-C57B5B73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99F6-E62D-4A35-A13D-DFEC3CF7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127D-9E2B-40F2-9A8D-2F1A55A7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AB85-C0F9-437C-99A9-C4CAD47B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5F72-6E18-47D5-8E87-D7DC565F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CDFFD-6CB9-4249-B612-50B2F14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29FE-3FF7-46EB-8D95-47DE4A1E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E833-DBFD-4113-AEFC-F5A036C2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A5FD-5FF2-4D40-B17D-D86DEF8B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818C-416E-4CD0-8FE0-2CF2DCE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7092-05EC-499D-9164-5CC93B0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1E57-D149-466F-B572-6EEFB48D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6539-58E5-4B0E-A8D2-E7A592D62BF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9522-9E9D-4534-BDCC-EAAB43388D0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324000" y="1416600"/>
            <a:ext cx="95774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4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69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Уповавам в Теб,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се само аз надявам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еб, в благодатта Ти, Спас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яра пребивавам!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324000" y="1807560"/>
            <a:ext cx="98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повавам в Теб,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 любов си пълен, благ, велик Цар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уповавам в Тебе, Спа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лагодатта - Твой 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Господи, Теб се надяв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Ти ме опаз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в кръвта Ти уповав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кръвта, що ме спа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324000" y="1807560"/>
            <a:ext cx="98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повавам в Теб,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 любов си пълен, благ, велик Цар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уповавам в Тебе, Спа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лагодатта - Твой 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612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Господи, в Теб уповав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ме оставяй н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еб всичко аз очакв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якога, о, мой Сп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324000" y="1807560"/>
            <a:ext cx="98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повавам в Теб, Ису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 любов си пълен, благ, велик Цар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уповавам в Тебе, Спа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лагодатта - Твой 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9-23T15:56:31Z</dcterms:modified>
  <cp:revision>81</cp:revision>
  <dc:subject/>
  <dc:title>Slide 1</dc:title>
</cp:coreProperties>
</file>